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0231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76320" y="744120"/>
            <a:ext cx="4844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DBD6-8813-404D-9BEA-238123449F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EA77-0546-4576-809B-13551035BB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B316-A81A-4B9A-90CD-001D3B53C4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7873-783D-47CA-90BF-E8CF9C1CE2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1501-ACB0-45D7-8527-7E58355750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34ED-B9A5-421D-8389-6A48F4E216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1BB6-F9ED-4D28-AA03-F77E863DD2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5C3-6854-49E3-A71A-3985D55D3F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EDE9-B43B-4B6C-BDBE-3766BCA5B6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A039-9C37-4CB3-A912-E82C12593CE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3AB7-7454-4B83-96D9-3EF2E65F3F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D413-C1FE-438A-86AF-9B270D4D6A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BA1A-D4E4-490D-8D71-80A4B47DE4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76320" y="744480"/>
            <a:ext cx="484488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3400"/>
            <a:ext cx="822924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771000"/>
            <a:ext cx="822924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34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34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710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7710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3400"/>
            <a:ext cx="26496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43400"/>
            <a:ext cx="26496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43400"/>
            <a:ext cx="26496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771000"/>
            <a:ext cx="26496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771000"/>
            <a:ext cx="26496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771000"/>
            <a:ext cx="26496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43400"/>
            <a:ext cx="8229240" cy="40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43400"/>
            <a:ext cx="8229240" cy="40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43400"/>
            <a:ext cx="4015800" cy="40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43400"/>
            <a:ext cx="4015800" cy="40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34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3400"/>
            <a:ext cx="4015800" cy="40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7710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3400"/>
            <a:ext cx="4015800" cy="40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434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7710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34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3400"/>
            <a:ext cx="401580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71000"/>
            <a:ext cx="8229240" cy="19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Eurofidi"/>
          <p:cNvPicPr/>
          <p:nvPr/>
        </p:nvPicPr>
        <p:blipFill>
          <a:blip r:embed="rId2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826920" y="2503440"/>
            <a:ext cx="784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Tahoma"/>
              </a:rPr>
              <a:t>Eurofidi: presentazione dati di bilanci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Giuseppe Pezzetto, Pres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580000" y="53118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Torino, 19 marzo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09480" y="2143080"/>
            <a:ext cx="78501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Al 31 dicembre 2011 il personale di Eurofidi era composto da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313 dipendenti 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di cu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147 uomini (47% del tot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166 donne (53% del tot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Età media 35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Il 71% è laure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Operatività n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09480" y="12794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Nel corso del 2011 Eurofidi ha coperto con la sua operatività tre nuove regioni: i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Venet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, i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Friuli Venezia Giulia 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e la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Campania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. Ad oggi Eurofidi è presente praticamente in tutta Italia; le regioni mancanti del Sud saranno oggetto di copertura nei prossimi an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762280" y="2598840"/>
            <a:ext cx="362412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layer mon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1"/>
          <a:stretch/>
        </p:blipFill>
        <p:spPr>
          <a:xfrm>
            <a:off x="2700360" y="1208160"/>
            <a:ext cx="4070160" cy="5759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24000" y="1424160"/>
            <a:ext cx="18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KPMG ha realizzato una ricerca internazionale sui protagonisti del mercato della garanz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Eurofidi è stata inserita tra i nove big player mondiali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, unico caso tra i Confidi itali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mprese so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609480" y="1208160"/>
            <a:ext cx="82105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I risultati dell’attività di Eurofidi in tutte le regioni in cui è presente si sono tradotti in un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aumento delle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aziende socie 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(+8%), che al 31/12/2011 ammontavano a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47.970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(erano 44.453 a fine 20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Imprese socie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i="1" lang="it-IT" sz="1400" spc="-1" strike="noStrike">
                <a:solidFill>
                  <a:srgbClr val="006666"/>
                </a:solidFill>
                <a:latin typeface="Tahoma"/>
              </a:rPr>
              <a:t> 2009 </a:t>
            </a:r>
            <a:r>
              <a:rPr b="1" i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i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i="1" lang="it-IT" sz="1400" spc="-1" strike="noStrike">
                <a:solidFill>
                  <a:srgbClr val="006666"/>
                </a:solidFill>
                <a:latin typeface="Tahoma"/>
              </a:rPr>
              <a:t>2010</a:t>
            </a:r>
            <a:r>
              <a:rPr b="1" i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i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i="1" lang="it-IT" sz="1400" spc="-1" strike="noStrike">
                <a:solidFill>
                  <a:srgbClr val="006666"/>
                </a:solidFill>
                <a:latin typeface="Tahoma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Piemonte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 22.219 (54%) 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22.254 (50%) 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22.207 (4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Altre regioni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 18.673 (46%) 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22.199 (50%) 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6666"/>
                </a:solidFill>
                <a:latin typeface="Tahoma"/>
              </a:rPr>
              <a:t>25.763 (54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Totale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 40.892 (100%) 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	</a:t>
            </a:r>
            <a:r>
              <a:rPr b="1" lang="it-IT" sz="1400" spc="-1" strike="noStrike">
                <a:solidFill>
                  <a:srgbClr val="006666"/>
                </a:solidFill>
                <a:latin typeface="Tahoma"/>
              </a:rPr>
              <a:t>44.453 (100%)       47.970 (10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Grafico 4" descr=""/>
          <p:cNvPicPr/>
          <p:nvPr/>
        </p:nvPicPr>
        <p:blipFill>
          <a:blip r:embed="rId1"/>
          <a:stretch/>
        </p:blipFill>
        <p:spPr>
          <a:xfrm>
            <a:off x="2120760" y="3645000"/>
            <a:ext cx="547560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Finanziamenti e Garanzie  flu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09480" y="12794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Il flusso dei </a:t>
            </a:r>
            <a:r>
              <a:rPr b="1" i="1" lang="it-IT" sz="1800" spc="-1" strike="noStrike">
                <a:solidFill>
                  <a:srgbClr val="006666"/>
                </a:solidFill>
                <a:latin typeface="Tahoma"/>
              </a:rPr>
              <a:t>finanziamenti garantiti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nel 2011 ammonta a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2,6 miliardi di eur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, (-8,8% rispetto a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Il flusso delle </a:t>
            </a:r>
            <a:r>
              <a:rPr b="1" i="1" lang="it-IT" sz="1800" spc="-1" strike="noStrike">
                <a:solidFill>
                  <a:srgbClr val="006666"/>
                </a:solidFill>
                <a:latin typeface="Tahoma"/>
              </a:rPr>
              <a:t>garanzie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rilasciate nel 2011 ammonta a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1,4 miliardi di eur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(-8,4% rispetto a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co 5" descr=""/>
          <p:cNvPicPr/>
          <p:nvPr/>
        </p:nvPicPr>
        <p:blipFill>
          <a:blip r:embed="rId1"/>
          <a:stretch/>
        </p:blipFill>
        <p:spPr>
          <a:xfrm>
            <a:off x="3206880" y="3005280"/>
            <a:ext cx="5651280" cy="3719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609480" y="3440160"/>
            <a:ext cx="22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La flessione rispetto all’anno precedente evidenzia la persistente difficoltà di accesso al credito delle aziende so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 Box 3" descr=""/>
          <p:cNvPicPr/>
          <p:nvPr/>
        </p:nvPicPr>
        <p:blipFill>
          <a:blip r:embed="rId1"/>
          <a:stretch/>
        </p:blipFill>
        <p:spPr>
          <a:xfrm>
            <a:off x="609480" y="1176480"/>
            <a:ext cx="7901280" cy="2504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Finanziamenti e Garanzie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afico 4" descr=""/>
          <p:cNvPicPr/>
          <p:nvPr/>
        </p:nvPicPr>
        <p:blipFill>
          <a:blip r:embed="rId2"/>
          <a:stretch/>
        </p:blipFill>
        <p:spPr>
          <a:xfrm>
            <a:off x="2590920" y="4071960"/>
            <a:ext cx="476064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solv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20718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Nel 2011, Eurofidi ha spesato a conto economico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insolvenze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per complessivi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39,42 milioni di eur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(46,14 milioni nel 2010, -14,5%) e ha accantonato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a fondo svalutazione crediti dubbi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per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7,52 milioni di eur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(7,9 milioni l’anno precede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I pagamenti per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sofferenze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sono stati nel 2011 pari a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66,5 milioni di euro 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(64,88 milioni di euro nel 20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I pagamenti lordi delle sofferenze rappresentano l'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1,78%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dello stock delle garan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e di Solv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9480" y="1351080"/>
            <a:ext cx="7848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Nel 2011, l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’</a:t>
            </a:r>
            <a:r>
              <a:rPr b="1" i="1" lang="it-IT" sz="1800" spc="-1" strike="noStrike">
                <a:solidFill>
                  <a:srgbClr val="006666"/>
                </a:solidFill>
                <a:latin typeface="Tahoma"/>
              </a:rPr>
              <a:t>indice di solvibilità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, il principale indicatore di solidità aziendale, è dell’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11,43% 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(era del 9,93% nel 2010), dato di molto superiore al 6% richiesto dalla Banca d’Italia.</a:t>
            </a:r>
            <a:r>
              <a:rPr b="0" i="1" lang="it-IT" sz="18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Tale indice sale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effettivamente al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13,12%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, considerando le controgaranzie presentate da Eurofidi a fine dicembre 2011 al Fondo Centrale e da questo deliberate dall’inizio del 2012 in p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Grafico 5" descr=""/>
          <p:cNvPicPr/>
          <p:nvPr/>
        </p:nvPicPr>
        <p:blipFill>
          <a:blip r:embed="rId1"/>
          <a:stretch/>
        </p:blipFill>
        <p:spPr>
          <a:xfrm>
            <a:off x="2335320" y="3413160"/>
            <a:ext cx="51688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Mitigazione del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09480" y="1749600"/>
            <a:ext cx="7850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Anche nel 2011, Eurofidi ha puntato molto sugli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strumenti di mitigazione dei rischi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assunti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ottene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Da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Fondo Centrale di Garanzia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controgaranzie per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1,073 miliardi di eur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, (1,156 miliardi di euro nel 2010), pari al 76,7% del flusso di garanzie rilasciate nell’anno (era pari al 75% rispetto al flusso del 20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Con quasi 20.000 operazioni presentate Eurofidi è i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principale utilizzatore del Fondo Centrale di Garanzia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che, nel 2011, ha deliberato in suo favore i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35% dell’intera operatività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Da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Fondo di Riassicurazione della Regione Piemonte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controgaranzie per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23,4 milioni di eur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Da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Fondo Europeo per gli Investimenti 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controgaranzie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 per 22,26 milioni di eur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ati economico-finanz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200808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I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fatturat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di Eurofidi nel 2011 ammonta a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35,462 milioni di eu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(35,628 milioni ne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I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risultato operativo 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è pari a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2,587 milioni di eu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(632 mila euro ne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Il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conto economico 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chiude con un avanzo di gestione di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1,939 milioni di euro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 (48 mila euro ne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590920" y="533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ddi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09480" y="2506680"/>
            <a:ext cx="78501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La </a:t>
            </a:r>
            <a:r>
              <a:rPr b="1" lang="it-IT" sz="1800" spc="-1" strike="noStrike">
                <a:solidFill>
                  <a:srgbClr val="006666"/>
                </a:solidFill>
                <a:latin typeface="Tahoma"/>
              </a:rPr>
              <a:t>buona redditività </a:t>
            </a:r>
            <a:r>
              <a:rPr b="0" lang="it-IT" sz="1800" spc="-1" strike="noStrike">
                <a:solidFill>
                  <a:srgbClr val="006666"/>
                </a:solidFill>
                <a:latin typeface="Tahoma"/>
              </a:rPr>
              <a:t>è dovuta principalmente a due fatto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la politica di </a:t>
            </a:r>
            <a:r>
              <a:rPr b="1" lang="it-IT" sz="2000" spc="-1" strike="noStrike">
                <a:solidFill>
                  <a:srgbClr val="006666"/>
                </a:solidFill>
                <a:latin typeface="Tahoma"/>
              </a:rPr>
              <a:t>mantenimento dei c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la politica di </a:t>
            </a:r>
            <a:r>
              <a:rPr b="1" lang="it-IT" sz="2000" spc="-1" strike="noStrike">
                <a:solidFill>
                  <a:srgbClr val="006666"/>
                </a:solidFill>
                <a:latin typeface="Tahoma"/>
              </a:rPr>
              <a:t>massiccio ricorso alla controgaranz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9:45:41Z</dcterms:created>
  <dc:creator>vergnano</dc:creator>
  <dc:description/>
  <dc:language>en-US</dc:language>
  <cp:lastModifiedBy>Vergnano Lucia</cp:lastModifiedBy>
  <cp:lastPrinted>2012-03-13T13:37:55Z</cp:lastPrinted>
  <dcterms:modified xsi:type="dcterms:W3CDTF">2012-03-15T08:57:30Z</dcterms:modified>
  <cp:revision>70</cp:revision>
  <dc:subject/>
  <dc:title>Diapositiva 1</dc:title>
</cp:coreProperties>
</file>